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FD1-18D2-44D6-91A5-2709051D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4BFF-DD1F-4F69-BCC6-36CFA1F7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80B3-4830-411D-93DF-C9BD01BA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0C7C-17BB-4BF1-83F7-0E4C0BBE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D01-B056-4122-B4F3-CC12EC11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6F7B-2A18-496A-BC06-05427037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16C-90DB-4BE3-9026-43B9252A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1F8-0893-4B80-8F47-989535BD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0025-D230-48DE-B0BB-CB35C1DC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EDA-7DF0-43C9-9C8E-A711C8BF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5B20-0659-45E3-9954-6BA27CF4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C33E-6C04-40AC-9B0F-62D0240F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9320-DB03-46E4-A51B-419312EF9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ral Europe 16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Central_Europe_1660"/>
          <p:cNvPicPr/>
          <p:nvPr/>
        </p:nvPicPr>
        <p:blipFill>
          <a:blip r:embed="rId1"/>
          <a:stretch/>
        </p:blipFill>
        <p:spPr>
          <a:xfrm>
            <a:off x="380880" y="552600"/>
            <a:ext cx="822960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h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ed on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St"/>
          <p:cNvPicPr/>
          <p:nvPr/>
        </p:nvPicPr>
        <p:blipFill>
          <a:blip r:embed="rId1"/>
          <a:stretch/>
        </p:blipFill>
        <p:spPr>
          <a:xfrm>
            <a:off x="4495680" y="337176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St"/>
          <p:cNvPicPr/>
          <p:nvPr/>
        </p:nvPicPr>
        <p:blipFill>
          <a:blip r:embed="rId2"/>
          <a:stretch/>
        </p:blipFill>
        <p:spPr>
          <a:xfrm>
            <a:off x="0" y="3405240"/>
            <a:ext cx="4495680" cy="3452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St"/>
          <p:cNvPicPr/>
          <p:nvPr/>
        </p:nvPicPr>
        <p:blipFill>
          <a:blip r:embed="rId3"/>
          <a:stretch/>
        </p:blipFill>
        <p:spPr>
          <a:xfrm>
            <a:off x="5261040" y="228600"/>
            <a:ext cx="38829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, a new military power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 Northern War- Sw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s access to a warm water port- Baltic- Locates St.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s into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outh gains limited access to the Black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a War College- move to professional armies throughout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an army (conscription) 300,000—Life Serv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 adds Terri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1700-talet_1"/>
          <p:cNvPicPr/>
          <p:nvPr/>
        </p:nvPicPr>
        <p:blipFill>
          <a:blip r:embed="rId1"/>
          <a:stretch/>
        </p:blipFill>
        <p:spPr>
          <a:xfrm>
            <a:off x="1600200" y="2209680"/>
            <a:ext cx="2894040" cy="3886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ingria"/>
          <p:cNvPicPr/>
          <p:nvPr/>
        </p:nvPicPr>
        <p:blipFill>
          <a:blip r:embed="rId2"/>
          <a:stretch/>
        </p:blipFill>
        <p:spPr>
          <a:xfrm>
            <a:off x="5334120" y="2286000"/>
            <a:ext cx="25527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strian Habsburg Empir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lting Pot or Mosa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habsblands1732"/>
          <p:cNvPicPr/>
          <p:nvPr/>
        </p:nvPicPr>
        <p:blipFill>
          <a:blip r:embed="rId1"/>
          <a:stretch/>
        </p:blipFill>
        <p:spPr>
          <a:xfrm>
            <a:off x="533520" y="1752480"/>
            <a:ext cx="6210360" cy="4838760"/>
          </a:xfrm>
          <a:prstGeom prst="rect">
            <a:avLst/>
          </a:prstGeom>
          <a:ln w="0">
            <a:noFill/>
          </a:ln>
        </p:spPr>
      </p:pic>
      <p:sp>
        <p:nvSpPr>
          <p:cNvPr id="83" name="Line 7"/>
          <p:cNvSpPr/>
          <p:nvPr/>
        </p:nvSpPr>
        <p:spPr>
          <a:xfrm flipH="1">
            <a:off x="4343400" y="3886200"/>
            <a:ext cx="2286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6781680" y="3657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ngary (magy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086600" y="5486400"/>
            <a:ext cx="22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 flipH="1">
            <a:off x="3657240" y="5105520"/>
            <a:ext cx="3429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7162920" y="4952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a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 flipH="1">
            <a:off x="3733560" y="1523880"/>
            <a:ext cx="243828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6248520" y="1295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h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 flipH="1">
            <a:off x="3657240" y="3200400"/>
            <a:ext cx="3429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7238880" y="29718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7165080" y="29718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0"/>
          <p:cNvSpPr/>
          <p:nvPr/>
        </p:nvSpPr>
        <p:spPr>
          <a:xfrm flipH="1">
            <a:off x="4571640" y="2438280"/>
            <a:ext cx="25909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7301880" y="20937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l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nb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schonbrun"/>
          <p:cNvPicPr/>
          <p:nvPr/>
        </p:nvPicPr>
        <p:blipFill>
          <a:blip r:embed="rId1"/>
          <a:stretch/>
        </p:blipFill>
        <p:spPr>
          <a:xfrm>
            <a:off x="2133720" y="1752480"/>
            <a:ext cx="45529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bsburg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ed -&gt;Spanish Line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Philip Habsburg married- Ferdinand and Isabella’s daugh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V- divided Habsbur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Habsburgs -&gt;son Philip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ian Habsburgs-&gt; brother- Ferdin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Habsburgs-&gt; run out of heirs-early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- Louis IV (France) grandson- Bourbon- becomes King (see war Spanish Succes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ian Habsburgs run out of male heirs- dad tries to get his daughter Queen…b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gmatic Sa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080" y="1828800"/>
            <a:ext cx="750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1713-by Charles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led to the War of the Austrian Succession 1740-17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t Silesia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ients Austria more towards the east-&gt;Hungary and Balk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200px-Maria_Theresia_of_Spain"/>
          <p:cNvPicPr/>
          <p:nvPr/>
        </p:nvPicPr>
        <p:blipFill>
          <a:blip r:embed="rId1"/>
          <a:stretch/>
        </p:blipFill>
        <p:spPr>
          <a:xfrm>
            <a:off x="6958080" y="0"/>
            <a:ext cx="2185920" cy="2971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514600" y="4687920"/>
            <a:ext cx="41814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ia Theresa- ruled 1740-17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d jointly with her son, Joseph II 1765-17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CHILDREN!!! Incl. Marie Antoin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3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eginning of the Ri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P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48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ilitary in search of a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henzollern Dyna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derick William the El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d Brandenburg and P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 and militar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f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unkers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igration of Jews and Huegeon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Friedrich-Christian"/>
          <p:cNvPicPr/>
          <p:nvPr/>
        </p:nvPicPr>
        <p:blipFill>
          <a:blip r:embed="rId1"/>
          <a:stretch/>
        </p:blipFill>
        <p:spPr>
          <a:xfrm>
            <a:off x="6291360" y="76320"/>
            <a:ext cx="287820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ussia Exp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derick II (the Great) 1740-17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s land from Aust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lightened or Despotic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derick the Grea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discuss---chapter 1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frederick_portrait_at_ferney14k"/>
          <p:cNvPicPr/>
          <p:nvPr/>
        </p:nvPicPr>
        <p:blipFill>
          <a:blip r:embed="rId1"/>
          <a:stretch/>
        </p:blipFill>
        <p:spPr>
          <a:xfrm>
            <a:off x="3257640" y="2230560"/>
            <a:ext cx="262872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ral Europe 17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entral_Europe_1780"/>
          <p:cNvPicPr/>
          <p:nvPr/>
        </p:nvPicPr>
        <p:blipFill>
          <a:blip r:embed="rId1"/>
          <a:stretch/>
        </p:blipFill>
        <p:spPr>
          <a:xfrm>
            <a:off x="533520" y="668160"/>
            <a:ext cx="8076960" cy="61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sou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sansb"/>
          <p:cNvPicPr/>
          <p:nvPr/>
        </p:nvPicPr>
        <p:blipFill>
          <a:blip r:embed="rId1"/>
          <a:stretch/>
        </p:blipFill>
        <p:spPr>
          <a:xfrm>
            <a:off x="1143000" y="1219320"/>
            <a:ext cx="6095880" cy="4022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Potsdam04"/>
          <p:cNvPicPr/>
          <p:nvPr/>
        </p:nvPicPr>
        <p:blipFill>
          <a:blip r:embed="rId2"/>
          <a:stretch/>
        </p:blipFill>
        <p:spPr>
          <a:xfrm>
            <a:off x="5334120" y="431496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expands and central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ussia (part of modern day Germany) militarizes and asserts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ia (Habsburg) moves East and South, and makes way for a Qu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ov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of Trou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ael Romanov- Rises to Power (mid-17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moscow krelmin2"/>
          <p:cNvPicPr/>
          <p:nvPr/>
        </p:nvPicPr>
        <p:blipFill>
          <a:blip r:embed="rId1"/>
          <a:stretch/>
        </p:blipFill>
        <p:spPr>
          <a:xfrm>
            <a:off x="2209680" y="3276720"/>
            <a:ext cx="456588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St"/>
          <p:cNvPicPr/>
          <p:nvPr/>
        </p:nvPicPr>
        <p:blipFill>
          <a:blip r:embed="rId1"/>
          <a:stretch/>
        </p:blipFill>
        <p:spPr>
          <a:xfrm>
            <a:off x="5151600" y="914400"/>
            <a:ext cx="3995640" cy="5327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 the Gr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5646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Good to be 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ernized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eled incognito through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gh to do if you are 6’8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ed on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cal School-Academ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tic Sea- Great Northern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zed th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less! Killed his only son, tried hi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fe for adultery and imprisoned his mi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ing for Power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oy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Nobility of Russia, their beards are shorn and government servic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fdom- Peasants and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ryabushkin7"/>
          <p:cNvPicPr/>
          <p:nvPr/>
        </p:nvPicPr>
        <p:blipFill>
          <a:blip r:embed="rId1"/>
          <a:stretch/>
        </p:blipFill>
        <p:spPr>
          <a:xfrm>
            <a:off x="3276720" y="3733920"/>
            <a:ext cx="46450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ter takes control of the Chu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archs – Church Elites – Abolished- created a synod– Peter got to name the counci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oscow kremlin_1"/>
          <p:cNvPicPr/>
          <p:nvPr/>
        </p:nvPicPr>
        <p:blipFill>
          <a:blip r:embed="rId1"/>
          <a:stretch/>
        </p:blipFill>
        <p:spPr>
          <a:xfrm>
            <a:off x="228600" y="350532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St"/>
          <p:cNvPicPr/>
          <p:nvPr/>
        </p:nvPicPr>
        <p:blipFill>
          <a:blip r:embed="rId2"/>
          <a:stretch/>
        </p:blipFill>
        <p:spPr>
          <a:xfrm>
            <a:off x="6745320" y="3660840"/>
            <a:ext cx="2398680" cy="3197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patriarch-alexiy-ii"/>
          <p:cNvPicPr/>
          <p:nvPr/>
        </p:nvPicPr>
        <p:blipFill>
          <a:blip r:embed="rId3"/>
          <a:stretch/>
        </p:blipFill>
        <p:spPr>
          <a:xfrm>
            <a:off x="3733920" y="3048120"/>
            <a:ext cx="19047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jugating the Military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treltsy- Palace Gu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57150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inting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rning of the execution of the Strelt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surikov-streltsy"/>
          <p:cNvPicPr/>
          <p:nvPr/>
        </p:nvPicPr>
        <p:blipFill>
          <a:blip r:embed="rId1"/>
          <a:stretch/>
        </p:blipFill>
        <p:spPr>
          <a:xfrm>
            <a:off x="1371600" y="1523880"/>
            <a:ext cx="643896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. Petersbu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ed on Amster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st"/>
          <p:cNvPicPr/>
          <p:nvPr/>
        </p:nvPicPr>
        <p:blipFill>
          <a:blip r:embed="rId1"/>
          <a:stretch/>
        </p:blipFill>
        <p:spPr>
          <a:xfrm>
            <a:off x="1523880" y="1828800"/>
            <a:ext cx="62420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8T14:39:14Z</dcterms:created>
  <dc:creator>Darien Public Schools</dc:creator>
  <dc:description/>
  <dc:language>en-US</dc:language>
  <cp:lastModifiedBy>Balazs, Stephen</cp:lastModifiedBy>
  <dcterms:modified xsi:type="dcterms:W3CDTF">2014-03-21T13:12:02Z</dcterms:modified>
  <cp:revision>21</cp:revision>
  <dc:subject/>
  <dc:title>Peter the Great</dc:title>
</cp:coreProperties>
</file>